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863D-3318-4FCB-93DF-25D33E6FF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0305-270A-4992-B717-67AEBB1D9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00CA-6139-42B9-B951-794DA48B1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6305-1DFA-4FCB-87B4-FE8637F1C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A161-2986-4F3E-9EB9-7BCF362F8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FDD9-1E9C-4CD3-A890-A5FD8A22D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F4E0-B71E-4144-9685-B536536B9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3A84-1921-443C-B8AF-64F544F03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B388-A69A-4F3C-97EA-4F26D24FC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B9E6-651A-4BEA-932B-23616905B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17AE-78D6-4D0C-BB50-E9F1A4404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DBC9-F2F7-40E7-BE3A-6FFC5D3AA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63B2-569E-42D6-9C83-4DA5B29F2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7F96-A872-40D4-8A83-C55B03B7F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8986-3026-4B22-A3F7-E1C6072AF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298B-E54E-4292-A53B-82AE82964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625C-DCCB-4C3C-BBB0-82B51EDE6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BEA0-FEBA-4310-9ADF-D78F3131B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20E1-7EDA-4A53-993A-2644D189E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B363-7EE4-4DEE-AA41-81348D8FA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252C-F369-470A-B6A9-36A1CEC87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5944-EE4A-4817-B975-E7BF145F5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D5B2-7C84-45D6-95E3-958A6D988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E646-2169-4BE7-A642-C8410CD2F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D38-D45C-4E7C-9C03-24DC08D2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2883-C1D8-498A-92A7-B95D9CF0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DD3-119E-487B-A904-DF8AC72A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49F-D38B-4D2A-AB7A-E23F2A06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29CA-48F3-4411-A8FA-80D5BB28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08B4-A096-4661-8088-77BF152C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6A6F-CAE5-49D4-AA41-42D78D3F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FCC3-8651-4C4B-8F8B-56C9C3A9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1BCA-3291-4DC1-A492-FBAA3723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E860-6E6C-4EDA-B278-BDDF8587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AA4E-448B-4C42-898E-E93C7431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72C-8027-467E-84B6-3F179474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DC1F-A1D6-4C9C-846B-11623BC1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27F9-4760-4887-B363-24A1489A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1E13-4B04-4F1A-A9C8-92EC703E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920D-DDD9-48E3-B41C-D7D2396D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09E3-B89B-45C1-9BE2-1D7C869B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82F-11BD-47FD-A891-98EC2139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AA5-CF64-4FBE-A9BE-844D8B3A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58B-F777-414C-BA21-A0432A38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27A-648A-4465-8757-3F27A274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99D-970B-408A-A217-6B3027DA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C06F-D26F-4C53-A86D-64587241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50A-0A8D-4F52-862B-222556A9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scifair_INSIDE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3ECC-6822-403B-90C0-1F6F924D40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scifair_front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6E72-18B3-4462-8CAD-826C35CC74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Rockwell Extra Bold"/>
              </a:rPr>
              <a:t>The Science of Biolog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2209680"/>
            <a:ext cx="64767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ology 3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3. Form a Hypothe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 Old Style"/>
              </a:rPr>
              <a:t>Based on the research you have done, write a possible answer or solution – your best educated guess – to your ques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8190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4. Design an Experi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Control Group: 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Part of your experiment that is not varied in anyway.  You can compare your test groups to this set standard grou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Independent variable- 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The change/difference </a:t>
            </a:r>
            <a:r>
              <a:rPr b="0" i="1" lang="en-US" sz="2200" spc="-1" strike="noStrike">
                <a:solidFill>
                  <a:srgbClr val="0000ff"/>
                </a:solidFill>
                <a:latin typeface="Book Antiqua"/>
              </a:rPr>
              <a:t>you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 make in the experiment (the thing you are testing). Also called manipulated varia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Dependent variable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- The differences that result from the experiment, the resulting effect. Also called responding vari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Book Antiqua"/>
              </a:rPr>
              <a:t>Constants- </a:t>
            </a:r>
            <a:r>
              <a:rPr b="0" lang="en-US" sz="2200" spc="-1" strike="noStrike">
                <a:solidFill>
                  <a:srgbClr val="0000ff"/>
                </a:solidFill>
                <a:latin typeface="Book Antiqua"/>
              </a:rPr>
              <a:t>Things in the experiment that do not change, kept exactly the same for each test group so they do not affect the resul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819000"/>
            <a:ext cx="8080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5. Data/Resul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236196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It is easier to understand the data if it is put into a table and/or grap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Make sure all data is clearly labeled.  Charts and graph should always include units and tit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When graphing the independent variable should be on the x axis and the dependent variable should be on the y a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6. Analy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What happene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What was expected?  What was unexpec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Book Antiqua"/>
              </a:rPr>
              <a:t>What trends did you notice in the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76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7. Conclusion or Summar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3432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Indicate whether or not the data supports the hypothesis and explain why or why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uggest possible improvements to the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uggest further avenues of research or uses for the information discov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 Extra Bold"/>
              </a:rPr>
              <a:t>Learning Checkpoi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nferenc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steps of the scientific meth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ich step would you find charts and graph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difference between an independent variable and a dependent varia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urpose of a control gro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it mean to have a controlled experi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1-2 An Example of</a:t>
            </a:r>
            <a:br>
              <a:rPr sz="3600"/>
            </a:b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 Science at 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bserved: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ometimes organisms just “arose” from nonliving things: eg. maggots came from me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he Question: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How do new living things come into be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Hypothesis: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In some cases, nonliving objects can spontaneously generate living organis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000" spc="-1" strike="noStrike" baseline="30000">
                <a:solidFill>
                  <a:srgbClr val="0000ff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Experiment- 1668, Francesco Red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Meat in covered and uncovered j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oposed a new hypothesis:  The maggots came from eggs left by flies on the meat that were too small to s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oncluded: Maggots came from fl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62120" y="1219320"/>
            <a:ext cx="7465680" cy="4514400"/>
            <a:chOff x="762120" y="1219320"/>
            <a:chExt cx="7465680" cy="4514400"/>
          </a:xfrm>
        </p:grpSpPr>
        <p:pic>
          <p:nvPicPr>
            <p:cNvPr id="126" name="Picture 3" descr=""/>
            <p:cNvPicPr/>
            <p:nvPr/>
          </p:nvPicPr>
          <p:blipFill>
            <a:blip r:embed="rId1"/>
            <a:stretch/>
          </p:blipFill>
          <p:spPr>
            <a:xfrm>
              <a:off x="768960" y="1250280"/>
              <a:ext cx="7458840" cy="448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4"/>
            <p:cNvSpPr/>
            <p:nvPr/>
          </p:nvSpPr>
          <p:spPr>
            <a:xfrm>
              <a:off x="762120" y="1219320"/>
              <a:ext cx="73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SERVATIONS: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ies land on meat that is left uncovered.  Later, maggots appear on the meat.</a:t>
              </a:r>
              <a:endParaRPr b="0" lang="en-US" sz="12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28" name="Text Box 5"/>
            <p:cNvSpPr/>
            <p:nvPr/>
          </p:nvSpPr>
          <p:spPr>
            <a:xfrm>
              <a:off x="769320" y="1482480"/>
              <a:ext cx="328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YPOTHESIS: Flies produce maggots.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29" name="Text Box 6"/>
            <p:cNvSpPr/>
            <p:nvPr/>
          </p:nvSpPr>
          <p:spPr>
            <a:xfrm>
              <a:off x="778680" y="1731960"/>
              <a:ext cx="131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DURE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776520" y="2619360"/>
              <a:ext cx="19090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d Variables: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rs, type of meat,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tion, temperature,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778680" y="3645360"/>
              <a:ext cx="199584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ipulated Variables: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uze covering that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eeps flies away from 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t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2" name="Text Box 9"/>
            <p:cNvSpPr/>
            <p:nvPr/>
          </p:nvSpPr>
          <p:spPr>
            <a:xfrm>
              <a:off x="3049560" y="2049120"/>
              <a:ext cx="154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covered jars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6078240" y="2049120"/>
              <a:ext cx="133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vered jars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4831920" y="3229560"/>
              <a:ext cx="986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veral 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s pass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2847960" y="482904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ggots appear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6081480" y="482904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 maggots appear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7" name="Text Box 14"/>
            <p:cNvSpPr/>
            <p:nvPr/>
          </p:nvSpPr>
          <p:spPr>
            <a:xfrm>
              <a:off x="782280" y="4588200"/>
              <a:ext cx="239976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ponding Variable: 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ther maggots 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ear</a:t>
              </a:r>
              <a:endParaRPr b="0" lang="en-US" sz="14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38" name="Text Box 15"/>
            <p:cNvSpPr/>
            <p:nvPr/>
          </p:nvSpPr>
          <p:spPr>
            <a:xfrm>
              <a:off x="762120" y="5226120"/>
              <a:ext cx="73389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57480" indent="-125748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CLUSION: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ggots form only when flies come in contact with meat. Spontaneous generation of maggots did not occur.</a:t>
              </a:r>
              <a:endParaRPr b="0" lang="en-US" sz="12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9144000" cy="507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nap ITC"/>
              </a:rPr>
              <a:t>Redi’s Experi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Science continues...New Ideas with new discover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New discovery!- tiny microorganisms (discovered by Anton van Leeuwenho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2</a:t>
            </a:r>
            <a:r>
              <a:rPr b="1" lang="en-US" sz="2400" spc="-1" strike="noStrike" baseline="30000">
                <a:solidFill>
                  <a:srgbClr val="0000ff"/>
                </a:solidFill>
                <a:latin typeface="Book Antiqua"/>
              </a:rPr>
              <a:t>nd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Experiment- Mid 1700s, John Needh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Repeats Redi’s experi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is hypothesis: Spontaneous generation can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under the right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Result: microorganisms appear in sealed flask of boiled grav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5d32"/>
                </a:solidFill>
                <a:latin typeface="Rockwell Extra Bold"/>
              </a:rPr>
              <a:t>Science Experiments are always repeated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3</a:t>
            </a:r>
            <a:r>
              <a:rPr b="1" lang="en-US" sz="2400" spc="-1" strike="noStrike" baseline="30000">
                <a:solidFill>
                  <a:srgbClr val="0000ff"/>
                </a:solidFill>
                <a:latin typeface="Book Antiqua"/>
              </a:rPr>
              <a:t>rd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Experiment- Lazzaro Spallanza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inks Needham did not boil gravy long enough to kill existing microorganis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Results: When left exposed to air, microorganisms will appear in boiled grav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e concluded that microorganisms could not come from gravy but appeared instead from microorganisms existing in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6312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5d32"/>
                </a:solidFill>
                <a:latin typeface="Rockwell Extra Bold"/>
              </a:rPr>
              <a:t>Observing the Worl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If you are a thinker, you question things you observe and may not understand and you try to find an answer.  There are many ways to find these answers.  If you are a scientific thinker you find your answer using the scientific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Book Antiqu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5d32"/>
                </a:solidFill>
                <a:latin typeface="Book Antiqua"/>
              </a:rPr>
              <a:t>Why is the sky bl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nap ITC"/>
              </a:rPr>
              <a:t>Spallanzani’s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220760" y="1600200"/>
            <a:ext cx="5021280" cy="4690440"/>
            <a:chOff x="1220760" y="1600200"/>
            <a:chExt cx="5021280" cy="4690440"/>
          </a:xfrm>
        </p:grpSpPr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>
              <a:off x="1523880" y="1600200"/>
              <a:ext cx="3537000" cy="42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5"/>
            <p:cNvSpPr/>
            <p:nvPr/>
          </p:nvSpPr>
          <p:spPr>
            <a:xfrm>
              <a:off x="1220760" y="355104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vy is boiled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48" name="Text Box 6"/>
            <p:cNvSpPr/>
            <p:nvPr/>
          </p:nvSpPr>
          <p:spPr>
            <a:xfrm>
              <a:off x="2946240" y="3551040"/>
              <a:ext cx="87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sk is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n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095720" y="3551040"/>
              <a:ext cx="2146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vy is teeming 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th microorganisms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1220760" y="578628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vy is boiled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2946240" y="5697360"/>
              <a:ext cx="87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sk is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aled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4097520" y="5709960"/>
              <a:ext cx="167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avy is free of 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croorganisms.</a:t>
              </a:r>
              <a:endParaRPr b="0" lang="en-US" sz="1600" spc="-1" strike="noStrike">
                <a:solidFill>
                  <a:srgbClr val="0000ff"/>
                </a:solidFill>
                <a:latin typeface="Rockwell Extra Bold"/>
              </a:endParaRPr>
            </a:p>
          </p:txBody>
        </p:sp>
      </p:grpSp>
      <p:sp>
        <p:nvSpPr>
          <p:cNvPr id="153" name="Text Box 11"/>
          <p:cNvSpPr/>
          <p:nvPr/>
        </p:nvSpPr>
        <p:spPr>
          <a:xfrm>
            <a:off x="6477120" y="2057400"/>
            <a:ext cx="2286000" cy="1191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ham tried first but didn’t bring gravy to hot enough temperature.</a:t>
            </a:r>
            <a:endParaRPr b="0" lang="en-US" sz="18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5d32"/>
                </a:solidFill>
                <a:latin typeface="Rockwell Extra Bold"/>
              </a:rPr>
              <a:t>New Question: Is air the “life force”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4</a:t>
            </a:r>
            <a:r>
              <a:rPr b="1" lang="en-US" sz="2400" spc="-1" strike="noStrike" baseline="30000">
                <a:solidFill>
                  <a:srgbClr val="0000ff"/>
                </a:solidFill>
                <a:latin typeface="Book Antiqua"/>
              </a:rPr>
              <a:t>th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Experiment- 1864, Louis Paste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et out to dismiss the notion that the “life force”, air was needed to generate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Used curved neck on flask so air could get in but organisms would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Concluded that all living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can only come from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This has been tested over and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and is now considered a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called </a:t>
            </a:r>
            <a:r>
              <a:rPr b="0" i="1" lang="en-US" sz="2400" spc="-1" strike="noStrike">
                <a:solidFill>
                  <a:srgbClr val="0000ff"/>
                </a:solidFill>
                <a:latin typeface="Book Antiqua"/>
              </a:rPr>
              <a:t>biogen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Pasteur"/>
          <p:cNvPicPr/>
          <p:nvPr/>
        </p:nvPicPr>
        <p:blipFill>
          <a:blip r:embed="rId1"/>
          <a:stretch/>
        </p:blipFill>
        <p:spPr>
          <a:xfrm>
            <a:off x="6019920" y="4419720"/>
            <a:ext cx="27050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25"/>
          <p:cNvPicPr/>
          <p:nvPr/>
        </p:nvPicPr>
        <p:blipFill>
          <a:blip r:embed="rId1"/>
          <a:stretch/>
        </p:blipFill>
        <p:spPr>
          <a:xfrm>
            <a:off x="533520" y="457200"/>
            <a:ext cx="8229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 Extra Bold"/>
              </a:rPr>
              <a:t>Learning Checkpoi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all 4 scientists use good scientific thinking and a controlled experi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pontaneous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the point of the “swan neck” Pasteur added to his fla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iogene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5d32"/>
                </a:solidFill>
                <a:latin typeface="Rockwell Extra Bold"/>
              </a:rPr>
              <a:t>1-1 What is scienc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an organized way of using evidence to learn about the natural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Book Antiqua"/>
              </a:rPr>
              <a:t>It also refers to the body of knowledge tha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cientists have accumulated over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Book Antiqua"/>
              </a:rPr>
              <a:t>It is not </a:t>
            </a:r>
            <a:r>
              <a:rPr b="0" lang="en-US" sz="2600" spc="-1" strike="noStrike">
                <a:solidFill>
                  <a:srgbClr val="0000ff"/>
                </a:solidFill>
                <a:latin typeface="Book Antiqua"/>
              </a:rPr>
              <a:t>based on belief or faith, magic, or legend but on actual evidence.  It is concerned with the natural world, not the supernatural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5d32"/>
                </a:solidFill>
                <a:latin typeface="Rockwell Extra Bold"/>
              </a:rPr>
              <a:t>What is Biolog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1905120" y="2780280"/>
            <a:ext cx="57909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Rockwell Extra Bold"/>
              </a:rPr>
              <a:t>Biology is a specific field of science that studies life</a:t>
            </a:r>
            <a:endParaRPr b="0" lang="en-US" sz="3500" spc="-1" strike="noStrike">
              <a:solidFill>
                <a:srgbClr val="0000ff"/>
              </a:solidFill>
              <a:latin typeface="Rockwell Extra Bold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5d32"/>
                </a:solidFill>
                <a:latin typeface="Rockwell Extra Bold"/>
              </a:rPr>
              <a:t>Important Skills used When Doing Scienc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Observing- 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process of gathering information using your senses in a careful, orderly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Inferencing-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making a logical interpretation based on prior knowledge or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Good Scientists.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are skeptics: 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 They question existing ideas and new hypothe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are open-minded: 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They are always willing to consider new ideas when evidence demands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rely on basic natural laws: 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They understand that the universe functions as a system of interacting proces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repeat experiments: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  through an immense amount of research a certain hypothesis might become so well-supported that scientists consider it a </a:t>
            </a: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theory  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(example: biogenesi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 Antiqua"/>
              </a:rPr>
              <a:t>keep up with new knowledge gained through research</a:t>
            </a:r>
            <a:r>
              <a:rPr b="0" lang="en-US" sz="1800" spc="-1" strike="noStrike">
                <a:solidFill>
                  <a:srgbClr val="0000ff"/>
                </a:solidFill>
                <a:latin typeface="Book Antiqua"/>
              </a:rPr>
              <a:t>: They continually revise and re-evaluate their ideas.  NOTHING IS “FACT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805d32"/>
                </a:solidFill>
                <a:latin typeface="Book Antiqua"/>
              </a:rPr>
              <a:t>Many questions you have now or will have in the future involve science.  You must understand science to make intelligent decisions about such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How is Science Don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Scientists use the scientific method.  When scientists have a question about something in the world they use this method to find an ans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State the Problem or Question</a:t>
            </a: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State a 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Design an experiment with a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group, constants an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Analyze data/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ook Antiqua"/>
              </a:rPr>
              <a:t>Conclusion or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5d32"/>
                </a:solidFill>
                <a:latin typeface="Rockwell Extra Bold"/>
              </a:rPr>
              <a:t>1. State the Problem or Ques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Book Antiqua"/>
              </a:rPr>
              <a:t>What have I observe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Book Antiqua"/>
              </a:rPr>
              <a:t>What do I want to know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5d32"/>
                </a:solidFill>
                <a:latin typeface="Rockwell Extra Bold"/>
              </a:rPr>
              <a:t>2. Research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as anyone asked this befo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Did they discover an answe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How did they go about looking for an ans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</a:rPr>
              <a:t>What other things do I need to understand to answer my ques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16:17:46Z</dcterms:created>
  <dc:creator>Brian and Megan Gallagher</dc:creator>
  <dc:description/>
  <dc:language>en-US</dc:language>
  <cp:lastModifiedBy>MVanElli</cp:lastModifiedBy>
  <dcterms:modified xsi:type="dcterms:W3CDTF">2010-09-16T20:24:36Z</dcterms:modified>
  <cp:revision>11</cp:revision>
  <dc:subject/>
  <dc:title>The Science of B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31033</vt:lpwstr>
  </property>
</Properties>
</file>